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D191-0853-406E-9797-D51657A0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5B5A-4FD5-4B4C-8F84-27FBCBE6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330D-73CD-4E1F-BD35-DB713E4D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3A54-2976-48AD-AAA8-3711DFA2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61FF-9435-49C0-9C0A-4BF0252F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41F2-EE1E-4C60-9A4B-2CC2AE7A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5CC4-CC0C-4A21-B9E4-A1CB44B5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6DBF-EF45-4A77-A6BC-91809305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9FC8-20CB-465F-A478-077726FF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F9D9-A8CE-4E87-A39A-D30B53C0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C6E4-6848-491D-92B4-0609E4BA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8C30-D5FA-4A50-A490-EB9063BA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137D-57E0-447E-A38D-CBAE5E92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AC62-1222-421B-A990-0AB9AF88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885F-DA38-4FD7-BAFB-3DD0F332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325A-028C-4E51-BA7B-02A7E3C85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17E4-140E-424E-83EE-E41BCCE60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7D56-B926-4807-BAF2-8AC0113B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C4F9-33CC-4432-A58D-5EC49B3D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048A-9F37-4857-87C6-ACFCCB86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B7E0-F740-4CA1-A90B-CBB2556D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965D-6474-41EE-8071-AE0BEEC0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F130-2D64-4A02-8BE7-A608E668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3AB0-CB82-487F-8189-988D62FE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8037-04F8-4D64-99D7-551A453EC1B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A828-04AA-4303-92B4-36CB399CD0E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croeconomic Developments: Western Balka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I Advisory Group Video Confere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cember 15, 200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tional Monetary Fu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our them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d of a strong-growth/stable-inflation period in Western Balkan (SEE) countr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od internal balance outcomes came at the cost of rising external/financial stability risks. Crisis is now “unmasking” these risk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hindsight, past fiscal policy behavior was quite procyclical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thinking of macro outlook: work in progress, along several dimens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owth in SEE has been strong, and inflation performance satisfactory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632448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..but internal balance came at the cost of large and growing external imbalances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6324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... and growing risks to financial stability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8229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7696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286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 hindsight, fiscal policy stance was procyclical. Implication: Now no scope for countercyclical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1752480"/>
            <a:ext cx="6477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A very different environment has shaped up over the last few months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ding partner import growth dow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(still) V-shaped recovery in 201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mittances: downside ris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rms of trade: metals vs. energ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no “Ukraine-style” meltdow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pital inflows smaller and more cost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how fas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here we are in terms of macro outlook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owth: V-shaped, but rethinking seems underwa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flation: stable/re-assuring, but what role will exchange rate play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ternal imbalances: little adjustment projected, but how realistic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20:26:28Z</dcterms:created>
  <dc:creator>Tokhir Mirzoev</dc:creator>
  <dc:description/>
  <dc:language>en-US</dc:language>
  <cp:lastModifiedBy>bodinol</cp:lastModifiedBy>
  <dcterms:modified xsi:type="dcterms:W3CDTF">2008-12-19T18:44:44Z</dcterms:modified>
  <cp:revision>11</cp:revision>
  <dc:subject/>
  <dc:title>Macroeconomic Developments: Western Balk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